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B27B6-EC4B-462E-A995-21D503F95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8EC1-2FCA-4F10-85A2-B2890E0FA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4BA40-7A9A-4F9D-AC45-BC17F22B8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29C97-21F7-4B94-B6A9-4E3A189F4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42F5F-9F48-449A-9781-143C3F8A5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C0411-77EC-432F-AC4F-4D4EC279A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F4ECB-A68E-45F3-AB6A-FDD4B713D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9A79C-CDA9-4AD3-8FB2-3A28C4C84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1EA75-1105-4CE2-AA44-59D5A6992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1FCC6-A783-4C4F-B820-6037FFB80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CC23-0CE1-4339-8865-7AE2A3AC2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FA91-6FFD-49A8-804F-2D5BC2863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E6A8E-7443-4FBD-8F91-DC2EF6400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D61B5-1A11-4B55-847D-C6E52CF2C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59E65-03BC-445C-9BED-A6D95B401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DC381-D386-482B-9C47-0F2519FAE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0EF31-4368-4709-A6A0-245420215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EB8F98-38A7-4CD6-8712-AAF4E24E8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7A3E9-4412-4DB4-9222-659616E44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836A7-A84D-40D0-870E-4ADA71139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EB2E7-AF4D-4F4D-896F-46509A283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CF9C9-163E-4390-9D16-E241C8E98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5EBE-A9D3-4366-8FE2-45145C6B0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16256-5F37-4F9F-83C2-19A167B89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2BA92-B26F-44B9-9A03-B705DC151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122E7-B565-4648-99ED-9C3E5BC42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65256-E143-45DB-988E-EF48FD307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EAEDF-F088-48A5-B221-0C7196521B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9DDA3-33BF-4A82-B39C-410170C11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CEE8F-A376-4244-A2D1-EA84C029A5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A7ADED-C48E-412E-8973-9DD704C31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236F3-6320-416B-988F-0CF68026F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CC10B-60A5-4354-87D6-7A604DD7C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05D9-69E4-4ED8-9959-24F9899E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6488B-4244-440D-9EE0-1D0CA0A9A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D0883-C537-4B98-B5F9-8FEFD066BD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91D70-8DE0-4D37-9EDA-6BB8E88EA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8CCFB-F57F-467C-87F2-ECECF58E1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66B38-1CA1-4477-9C87-811830EA5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E1725-2AAE-40CC-9DEA-FEFD8D5A3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33713-3B8C-4EA4-BF3D-C114AAEBB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816F0-AF1D-4F72-BD47-F6E9637D3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8CDA6E-FF69-4E8C-A77F-99154333D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B85CE6-8674-478C-A4C3-B8AF4C7383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EC1BD-D534-40FA-9CDC-D6C4D59B5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B9879-FEC5-4739-9F4A-D5DCD0A88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3C455-3766-4883-8BEC-3B184A4B5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6DCEA8-35C8-48EE-BF7C-17D0230AC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D02DC3-2370-442D-945A-82CF52748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90677-BE0C-4189-9332-574C83127A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129B7-D859-489D-A58C-37614F29A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C88DF-9556-4C34-8F5F-5CA9A6F80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EEC16-79C9-4FC6-B321-BFDD7DEBC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754A5-661D-4044-B909-4E56DC5B5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E8EB8-5A64-4382-B524-1A1B6A94A9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F552-304B-498D-BF27-908B731DB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46982D-3DA1-4AB4-84FB-7FF37CEE0C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40274F-0CDF-4D7A-A32D-4F5187D5C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8FBB2-F0C2-4D0E-8870-0E4456F5C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54B2BC-98A0-4141-8E57-363AE7D15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0FBF2F-5E6F-433A-A3A5-EA89442A8D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7EA00C-41A9-41EC-AE46-A4CFD5A119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B7D7F-5182-432C-A09E-539E30F6C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B39FF-226F-4ABB-9C24-A523C6C99D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5A6AC-42E7-40ED-8AF1-ECA814540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6D79E-B3DB-4C8A-9D6D-2F67804A6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1CE7-F057-42C0-80E0-FB7E905E2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896B9-A783-4642-97BC-579471B56B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5A440C-3E9A-4E70-B28B-0A7C7E4FDF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7953F-E7F7-4393-A26A-72F5FE48C5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5B8EAA-AAF3-4DCA-8C93-90D76838A2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FB1F70-294F-445C-A8F2-293B1B02F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CDF1E-0CFD-42D7-B463-B91ADE0D6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0BC866-16FD-4FAE-8B11-EAE58506D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EA104-CC93-41DF-848E-0FCDA5D01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021F7-F080-4B77-972A-8BAF78A76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DD108-5806-48C2-A97A-7A1E28D98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DBF5-5426-4564-B266-D807DE56D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38973-C599-49A3-870A-2A92B8038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B2776-BE63-4967-A745-2E193AC2F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1FF23-70D4-4DEF-8B29-AE8B79B02F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DE6141-0575-4A57-8526-A61C3AB64E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24FBFF-C0E7-43CA-ADE7-45C5D9F22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37B8-5C1A-46C7-9F8D-25C70DA40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8399-BC2F-4463-A961-7C3A05332FD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462F-D99C-4FB5-A7D1-CB9A3EE7D87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10FC-76CA-4371-BE39-EB8BB5241F9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E285-3B78-49B3-A0A4-A0696FF2431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DD1E-FA51-4941-9597-8163A03B997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1CA0-8929-4136-B06D-06C8A0FE62A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238E-9BFA-482A-B206-B0E3A224AF6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p:cNvPicPr/>
          <p:nvPr/>
        </p:nvPicPr>
        <p:blipFill>
          <a:blip r:embed="rId1"/>
          <a:stretch/>
        </p:blipFill>
        <p:spPr>
          <a:xfrm>
            <a:off x="2362320" y="2590920"/>
            <a:ext cx="4733640" cy="3865320"/>
          </a:xfrm>
          <a:prstGeom prst="rect">
            <a:avLst/>
          </a:prstGeom>
          <a:ln w="0">
            <a:noFill/>
          </a:ln>
        </p:spPr>
      </p:pic>
      <p:pic>
        <p:nvPicPr>
          <p:cNvPr id="398" name="Rectangle 5" descr=""/>
          <p:cNvPicPr/>
          <p:nvPr/>
        </p:nvPicPr>
        <p:blipFill>
          <a:blip r:embed="rId2"/>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egiate use of DS . . .</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12 use of DS . . .</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The Digital Storytelling S Curve</a:t>
            </a:r>
            <a:endParaRPr b="0" lang="en-US" sz="3400" spc="-1" strike="noStrike">
              <a:solidFill>
                <a:srgbClr val="c1eeff"/>
              </a:solidFill>
              <a:latin typeface="Consolas"/>
            </a:endParaRPr>
          </a:p>
        </p:txBody>
      </p:sp>
      <p:pic>
        <p:nvPicPr>
          <p:cNvPr id="404" name="Picture 4" descr=""/>
          <p:cNvPicPr/>
          <p:nvPr/>
        </p:nvPicPr>
        <p:blipFill>
          <a:blip r:embed="rId1"/>
          <a:stretch/>
        </p:blipFill>
        <p:spPr>
          <a:xfrm>
            <a:off x="1905120" y="2133720"/>
            <a:ext cx="5900760" cy="3747960"/>
          </a:xfrm>
          <a:prstGeom prst="rect">
            <a:avLst/>
          </a:prstGeom>
          <a:ln w="0">
            <a:noFill/>
          </a:ln>
        </p:spPr>
      </p:pic>
      <p:sp>
        <p:nvSpPr>
          <p:cNvPr id="405"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 Curve – Innovation Adoption . . .</a:t>
            </a:r>
            <a:endParaRPr b="0" lang="en-US" sz="32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pic>
        <p:nvPicPr>
          <p:cNvPr id="409"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sp>
        <p:nvSpPr>
          <p:cNvPr id="41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graph presents the dates of adoption by various organizations over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organizations adopt this innovations at the same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13" name=""/>
          <p:cNvSpPr txBox="1"/>
          <p:nvPr/>
        </p:nvSpPr>
        <p:spPr>
          <a:xfrm>
            <a:off x="914400" y="1295280"/>
            <a:ext cx="7772400" cy="4572000"/>
          </a:xfrm>
          <a:prstGeom prst="rect">
            <a:avLst/>
          </a:prstGeom>
          <a:noFill/>
          <a:ln w="0">
            <a:noFill/>
          </a:ln>
        </p:spPr>
        <p:txBody>
          <a:bodyPr anchor="t">
            <a:normAutofit fontScale="99000"/>
          </a:bodyPr>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Center for Digital Storytelling. (2009). The evolution of digital storytelling:</a:t>
            </a:r>
            <a:br>
              <a:rPr sz="1700"/>
            </a:br>
            <a:r>
              <a:rPr b="0" lang="en-US" sz="1700" spc="-1" strike="noStrike">
                <a:solidFill>
                  <a:srgbClr val="ffffff"/>
                </a:solidFill>
                <a:latin typeface="Corbel"/>
              </a:rPr>
              <a:t>An abbreviated history of key moments during the first sixteen years (1993-2006). Retrieved July 2, 2009, from http://www.storycenter.org/timeline.html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novative Teaching Concepts. (2009). Digital storytelling: The very last of the great whangdoodles [video recording]. Retrieved July 3, 2009, from http://www.todaysteacher.com/Digital_Storytelling/wangdoodle.wmv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Tucker, G. (2006). First person singular: The power of digital storytelling. </a:t>
            </a:r>
            <a:r>
              <a:rPr b="0" i="1" lang="en-US" sz="1700" spc="-1" strike="noStrike">
                <a:solidFill>
                  <a:srgbClr val="ffffff"/>
                </a:solidFill>
                <a:latin typeface="Corbel"/>
              </a:rPr>
              <a:t>Screen Education, 42</a:t>
            </a:r>
            <a:r>
              <a:rPr b="0" lang="en-US" sz="1700" spc="-1" strike="noStrike">
                <a:solidFill>
                  <a:srgbClr val="ffffff"/>
                </a:solidFill>
                <a:latin typeface="Corbel"/>
              </a:rPr>
              <a:t>, 54-58.</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kipedia. (2009). </a:t>
            </a:r>
            <a:r>
              <a:rPr b="0" i="1" lang="en-US" sz="1700" spc="-1" strike="noStrike">
                <a:solidFill>
                  <a:srgbClr val="ffffff"/>
                </a:solidFill>
                <a:latin typeface="Corbel"/>
              </a:rPr>
              <a:t>Digital storytelling. </a:t>
            </a:r>
            <a:r>
              <a:rPr b="0" lang="en-US" sz="1700" spc="-1" strike="noStrike">
                <a:solidFill>
                  <a:srgbClr val="ffffff"/>
                </a:solidFill>
                <a:latin typeface="Corbel"/>
              </a:rPr>
              <a:t>Retrieved June 25, 2009, from http://en.wikipedia.org/wiki/Digital_storytelling</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1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 Tell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extexit.com/nextexit/nextframeset.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storycenter.org/cookbook.htm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electronicportfolios.org/digistor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10T02:11:43Z</dcterms:modified>
  <cp:revision>48</cp:revision>
  <dc:subject/>
  <dc:title>Digital Storytelling</dc:title>
</cp:coreProperties>
</file>